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266544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FE47-D629-45B1-A4C3-797B4F0EB5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F5E3-E724-4AF8-9C8C-31DB69F6A6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639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CEA1-B110-4D6A-BECE-9250807604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639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BB07-47E9-4E94-B47B-6E9BBAA2FF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C554-4EA5-4809-88E1-BB5B6A3F4E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181E-AAB8-4838-9481-02AD35F869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627960"/>
            <a:ext cx="9150480" cy="22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38160" y="658332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G - Sardeg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7912440" y="657864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ctober 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1889280" y="6629400"/>
            <a:ext cx="6019560" cy="225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1854360" y="6581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kouter@jive.n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63040" y="1166760"/>
            <a:ext cx="8062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at version </a:t>
            </a:r>
            <a:r>
              <a:rPr b="0" i="1" lang="en-US" sz="2400" spc="-1" strike="noStrike">
                <a:solidFill>
                  <a:srgbClr val="ff8000"/>
                </a:solidFill>
                <a:latin typeface="Arial"/>
              </a:rPr>
              <a:t>2.5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e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http://www.jive.nl/~verkout/evlbi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list of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k5C support 9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e to the FS “it’s a Mark5B” and it will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ookkeeping issue discovered after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ffects “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ime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” query correc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an label format policy enforced: EXP_ST_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non-conforming scan labels will be chang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vent data loss due to StreamStor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ord pointer being re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AZON can create non-8-byte length recor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5copy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/ FlexBuff recording dotting i’s + crossing t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25320" y="30492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merican Typewriter"/>
              </a:rPr>
              <a:t>jive5ab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 current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67000" y="1484280"/>
            <a:ext cx="624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ed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DK9.4 / 64 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Debian Wheezy (released Ju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0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n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decent Pyth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n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modern O/S a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ems fine at J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ield test with a real data record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64560" y="304920"/>
            <a:ext cx="57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merican Typewriter"/>
              </a:rPr>
              <a:t>jive5ab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 / Mark5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88960" y="303120"/>
            <a:ext cx="29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m5copy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28480" y="1700280"/>
            <a:ext cx="808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at v1.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ned the possibility to read data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lescope input “in://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jive5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memory buffer “mem://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unning with “-b” option, extract from live reco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24 Mbps </a:t>
            </a:r>
            <a:r>
              <a:rPr b="0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only on AMAZ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hardwa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50520" y="30312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SErase.py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2080" y="1700280"/>
            <a:ext cx="797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at v1.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ed suggestions following Jan 2014 TOG adv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workarounds for StreamStor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53040" y="30312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Distribution of python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77160" y="170028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d in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jive5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urce distribution (current at that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download links always point at latest ver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jive.nl/~verkout/evlbi/m5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jive.nl/~verkout/evlbi/SSErase.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8:02:07Z</dcterms:created>
  <dc:creator>Harro Verkouter</dc:creator>
  <dc:description/>
  <dc:language>en-US</dc:language>
  <cp:lastModifiedBy>Harro Verkouter</cp:lastModifiedBy>
  <dcterms:modified xsi:type="dcterms:W3CDTF">2014-10-05T08:34:18Z</dcterms:modified>
  <cp:revision>169</cp:revision>
  <dc:subject/>
  <dc:title>PowerPoint Presentation</dc:title>
</cp:coreProperties>
</file>